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gif" ContentType="image/gif"/>
  <Override PartName="/ppt/media/image22.gif" ContentType="image/gif"/>
  <Override PartName="/ppt/media/image21.jpeg" ContentType="image/jpeg"/>
  <Override PartName="/ppt/media/image6.gif" ContentType="image/gif"/>
  <Override PartName="/ppt/media/image36.gif" ContentType="image/gif"/>
  <Override PartName="/ppt/media/image20.jpeg" ContentType="image/jpeg"/>
  <Override PartName="/ppt/media/image26.gif" ContentType="image/gif"/>
  <Override PartName="/ppt/media/image19.gif" ContentType="image/gif"/>
  <Override PartName="/ppt/media/image18.gif" ContentType="image/gif"/>
  <Override PartName="/ppt/media/image23.gif" ContentType="image/gif"/>
  <Override PartName="/ppt/media/image17.jpeg" ContentType="image/jpeg"/>
  <Override PartName="/ppt/media/image12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3.gif" ContentType="image/gif"/>
  <Override PartName="/ppt/media/image8.gif" ContentType="image/gif"/>
  <Override PartName="/ppt/media/image38.gif" ContentType="image/gif"/>
  <Override PartName="/ppt/media/image40.gif" ContentType="image/gif"/>
  <Override PartName="/ppt/media/image9.gif" ContentType="image/gif"/>
  <Override PartName="/ppt/media/image39.gif" ContentType="image/gif"/>
  <Override PartName="/ppt/media/image41.gif" ContentType="image/gif"/>
  <Override PartName="/ppt/media/image30.gif" ContentType="image/gif"/>
  <Override PartName="/ppt/media/image28.gif" ContentType="image/gif"/>
  <Override PartName="/ppt/media/image42.gif" ContentType="image/gif"/>
  <Override PartName="/ppt/media/image31.gif" ContentType="image/gif"/>
  <Override PartName="/ppt/media/image29.gif" ContentType="image/gif"/>
  <Override PartName="/ppt/media/image43.gif" ContentType="image/gif"/>
  <Override PartName="/ppt/media/image44.gif" ContentType="image/gif"/>
  <Override PartName="/ppt/media/image37.gif" ContentType="image/gif"/>
  <Override PartName="/ppt/media/image7.gif" ContentType="image/gif"/>
  <Override PartName="/ppt/media/image11.gif" ContentType="image/gif"/>
  <Override PartName="/ppt/media/image10.gif" ContentType="image/gif"/>
  <Override PartName="/ppt/media/image5.gif" ContentType="image/gif"/>
  <Override PartName="/ppt/media/image35.gif" ContentType="image/gif"/>
  <Override PartName="/ppt/media/image34.gif" ContentType="image/gif"/>
  <Override PartName="/ppt/media/image4.gif" ContentType="image/gif"/>
  <Override PartName="/ppt/media/image1.jpeg" ContentType="image/jpeg"/>
  <Override PartName="/ppt/media/image27.gif" ContentType="image/gif"/>
  <Override PartName="/ppt/media/image33.gif" ContentType="image/gif"/>
  <Override PartName="/ppt/media/image3.gif" ContentType="image/gif"/>
  <Override PartName="/ppt/media/image32.gif" ContentType="image/gif"/>
  <Override PartName="/ppt/media/image2.gif" ContentType="image/gif"/>
  <Override PartName="/ppt/media/image2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A057-56EB-415C-818D-EBB7AAC8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005A-5D00-4250-9DD3-44032A27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C408-3A70-439F-B1E7-2892D6783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C0F7-CDAA-4A1F-B84D-13CEF6ADC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32436-93A4-4C9B-ACD8-7CE5F8C17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14982-14C4-4CC3-B459-F53DE1ED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E86FD-83F2-4AFC-A79D-8F056A0E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93D46-8ECE-4CAA-B03F-BDE4954B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4C499-42FB-41CD-BCB4-A103AA8D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FC4DF-A3AC-4A8A-8823-5B898FAD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10AEE-7D89-4FF6-8138-EFA0CF9C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6F9D-7863-4563-A390-8890A150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A5664-C7F6-4EDB-97E3-145A08D1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31E11-C876-45DB-ADC8-EDB0C14E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49D72-DDA8-498B-AE45-5A1CEA5D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D3E8B-2F57-4FD0-94BB-A576C5025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C46BF-F3B9-42EC-89B9-3975A6924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888D-8505-4950-A17E-A273B170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42CA-30A4-4432-A3CE-0BE732EA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902D-F84F-4597-A351-498497EE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BEFC-C0A9-4E82-B299-ED35D96E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CC5A-E94A-40E4-8161-B71FABC4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0E6A-94F0-4C48-B940-F699B827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3A86-5D0B-4951-8740-9F25828E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E04F-6122-4967-9ACF-3376102D8D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F30A-1580-4ACE-A376-5A49027FE5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4.gif"/><Relationship Id="rId9" Type="http://schemas.openxmlformats.org/officeDocument/2006/relationships/image" Target="../media/image8.gif"/><Relationship Id="rId10" Type="http://schemas.openxmlformats.org/officeDocument/2006/relationships/image" Target="../media/image9.gif"/><Relationship Id="rId11" Type="http://schemas.openxmlformats.org/officeDocument/2006/relationships/image" Target="../media/image5.gif"/><Relationship Id="rId12" Type="http://schemas.openxmlformats.org/officeDocument/2006/relationships/image" Target="../media/image10.gif"/><Relationship Id="rId13" Type="http://schemas.openxmlformats.org/officeDocument/2006/relationships/image" Target="../media/image5.gif"/><Relationship Id="rId14" Type="http://schemas.openxmlformats.org/officeDocument/2006/relationships/image" Target="../media/image3.gif"/><Relationship Id="rId15" Type="http://schemas.openxmlformats.org/officeDocument/2006/relationships/image" Target="../media/image5.gif"/><Relationship Id="rId16" Type="http://schemas.openxmlformats.org/officeDocument/2006/relationships/image" Target="../media/image11.gif"/><Relationship Id="rId17" Type="http://schemas.openxmlformats.org/officeDocument/2006/relationships/image" Target="../media/image2.gif"/><Relationship Id="rId18" Type="http://schemas.openxmlformats.org/officeDocument/2006/relationships/image" Target="../media/image6.gif"/><Relationship Id="rId19" Type="http://schemas.openxmlformats.org/officeDocument/2006/relationships/image" Target="../media/image2.gif"/><Relationship Id="rId20" Type="http://schemas.openxmlformats.org/officeDocument/2006/relationships/image" Target="../media/image8.gif"/><Relationship Id="rId21" Type="http://schemas.openxmlformats.org/officeDocument/2006/relationships/image" Target="../media/image12.gif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hyperlink" Target="http://images.flowers.vg/1024x768/ant.jpg" TargetMode="External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image" Target="../media/image24.gif"/><Relationship Id="rId6" Type="http://schemas.openxmlformats.org/officeDocument/2006/relationships/image" Target="../media/image25.gif"/><Relationship Id="rId7" Type="http://schemas.openxmlformats.org/officeDocument/2006/relationships/image" Target="../media/image26.gif"/><Relationship Id="rId8" Type="http://schemas.openxmlformats.org/officeDocument/2006/relationships/image" Target="../media/image26.gif"/><Relationship Id="rId9" Type="http://schemas.openxmlformats.org/officeDocument/2006/relationships/image" Target="../media/image27.gi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36.gi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gif"/><Relationship Id="rId3" Type="http://schemas.openxmlformats.org/officeDocument/2006/relationships/image" Target="../media/image38.gif"/><Relationship Id="rId4" Type="http://schemas.openxmlformats.org/officeDocument/2006/relationships/image" Target="../media/image37.gif"/><Relationship Id="rId5" Type="http://schemas.openxmlformats.org/officeDocument/2006/relationships/image" Target="../media/image39.gif"/><Relationship Id="rId6" Type="http://schemas.openxmlformats.org/officeDocument/2006/relationships/image" Target="../media/image40.gif"/><Relationship Id="rId7" Type="http://schemas.openxmlformats.org/officeDocument/2006/relationships/image" Target="../media/image40.gif"/><Relationship Id="rId8" Type="http://schemas.openxmlformats.org/officeDocument/2006/relationships/image" Target="../media/image41.gif"/><Relationship Id="rId9" Type="http://schemas.openxmlformats.org/officeDocument/2006/relationships/image" Target="../media/image42.gif"/><Relationship Id="rId10" Type="http://schemas.openxmlformats.org/officeDocument/2006/relationships/image" Target="../media/image43.gif"/><Relationship Id="rId11" Type="http://schemas.openxmlformats.org/officeDocument/2006/relationships/image" Target="../media/image44.gi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982800" cy="1474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403280" y="333360"/>
            <a:ext cx="982800" cy="1474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2411280" y="333360"/>
            <a:ext cx="1008360" cy="1511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3564000" y="333360"/>
            <a:ext cx="1008000" cy="1511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4716360" y="333360"/>
            <a:ext cx="1008000" cy="1511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5724360" y="333360"/>
            <a:ext cx="1008360" cy="1511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6659640" y="260280"/>
            <a:ext cx="1055520" cy="1582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3132000" y="1844640"/>
            <a:ext cx="1008360" cy="1513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4140360" y="1844640"/>
            <a:ext cx="1008000" cy="1513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1"/>
          <a:stretch/>
        </p:blipFill>
        <p:spPr>
          <a:xfrm>
            <a:off x="5292720" y="1844640"/>
            <a:ext cx="1008000" cy="1513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2"/>
          <a:stretch/>
        </p:blipFill>
        <p:spPr>
          <a:xfrm>
            <a:off x="179280" y="3357720"/>
            <a:ext cx="827280" cy="1584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3"/>
          <a:stretch/>
        </p:blipFill>
        <p:spPr>
          <a:xfrm>
            <a:off x="971640" y="3357720"/>
            <a:ext cx="865080" cy="1584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4"/>
          <a:stretch/>
        </p:blipFill>
        <p:spPr>
          <a:xfrm>
            <a:off x="1763640" y="3357720"/>
            <a:ext cx="792360" cy="1584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5"/>
          <a:stretch/>
        </p:blipFill>
        <p:spPr>
          <a:xfrm>
            <a:off x="2627280" y="3357720"/>
            <a:ext cx="865080" cy="1584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6"/>
          <a:stretch/>
        </p:blipFill>
        <p:spPr>
          <a:xfrm>
            <a:off x="3635280" y="3357720"/>
            <a:ext cx="792360" cy="1512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7"/>
          <a:stretch/>
        </p:blipFill>
        <p:spPr>
          <a:xfrm>
            <a:off x="4500720" y="3357720"/>
            <a:ext cx="720720" cy="1511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8"/>
          <a:stretch/>
        </p:blipFill>
        <p:spPr>
          <a:xfrm>
            <a:off x="5292720" y="3284640"/>
            <a:ext cx="863640" cy="1584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9"/>
          <a:stretch/>
        </p:blipFill>
        <p:spPr>
          <a:xfrm>
            <a:off x="6372360" y="3357720"/>
            <a:ext cx="720720" cy="1511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0"/>
          <a:stretch/>
        </p:blipFill>
        <p:spPr>
          <a:xfrm>
            <a:off x="7451640" y="3357720"/>
            <a:ext cx="720720" cy="1512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1"/>
          <a:stretch/>
        </p:blipFill>
        <p:spPr>
          <a:xfrm>
            <a:off x="8459640" y="3284640"/>
            <a:ext cx="6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ff2d"/>
            </a:gs>
            <a:gs pos="100000">
              <a:srgbClr val="ecfe4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dybug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dybugs feed on other insects that are harmful to farmers’ crops. In fact, some farmers have put ladybugs in their crops to protect their fruits and vegetables from other insec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448000" cy="503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300720" y="6308640"/>
            <a:ext cx="2381400" cy="549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308720" y="189000"/>
            <a:ext cx="1217880" cy="941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50920" y="981000"/>
            <a:ext cx="2665440" cy="828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Beneficial Insect"/>
          <p:cNvPicPr/>
          <p:nvPr/>
        </p:nvPicPr>
        <p:blipFill>
          <a:blip r:embed="rId5"/>
          <a:stretch/>
        </p:blipFill>
        <p:spPr>
          <a:xfrm>
            <a:off x="5292720" y="2276640"/>
            <a:ext cx="3456000" cy="281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3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s  make the soil ri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50920" y="6021360"/>
            <a:ext cx="8605800" cy="287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012000" y="0"/>
            <a:ext cx="3132000" cy="1628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132000" cy="1628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an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95640" y="2421000"/>
            <a:ext cx="468000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3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need honey bees because they assist  in the process known as pollin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34120" y="1628640"/>
            <a:ext cx="3809880" cy="3343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751880" y="5465880"/>
            <a:ext cx="1392120" cy="1392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2195640" y="5572080"/>
            <a:ext cx="4392360" cy="1285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0" y="4869000"/>
            <a:ext cx="1908000" cy="1892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2340000" y="260280"/>
            <a:ext cx="1190520" cy="1276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3924360" y="260280"/>
            <a:ext cx="1104840" cy="1276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5508720" y="260280"/>
            <a:ext cx="1104840" cy="1276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>
            <a:off x="3780000" y="3645000"/>
            <a:ext cx="140940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3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859280" y="3760920"/>
            <a:ext cx="3348000" cy="3097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877160" y="333360"/>
            <a:ext cx="1266840" cy="11239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nsects are important for the future of our environment becau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8315280" y="5373720"/>
            <a:ext cx="828720" cy="1257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971640" y="5589720"/>
            <a:ext cx="1512720" cy="11998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very important plant pollinators, especially of fruit and other crop pla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 honey, shellac, wax, and sil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lp control other pes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 food for many birds, fish and other animals-including peop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3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3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3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3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 information on heredity, evolution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chemistry, and other important science topic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good indictors of water pollu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fascinating to watch; inspiring to poets, writers, photographers, designers, and student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79280" y="4292640"/>
            <a:ext cx="2305080" cy="2181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140360" y="3933720"/>
            <a:ext cx="2228760" cy="2086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6516720" y="414972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7740720" y="1341360"/>
            <a:ext cx="1171440" cy="1038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8286840" y="5516640"/>
            <a:ext cx="8571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3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3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3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3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27280" y="765000"/>
            <a:ext cx="1657440" cy="1657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067280" y="90792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2771640" y="4076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3708360" y="4076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7667640" y="4076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4643280" y="4076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5651640" y="4076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9"/>
          <a:stretch/>
        </p:blipFill>
        <p:spPr>
          <a:xfrm>
            <a:off x="6659640" y="4076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0"/>
          <a:stretch/>
        </p:blipFill>
        <p:spPr>
          <a:xfrm>
            <a:off x="6864480" y="0"/>
            <a:ext cx="2279520" cy="3716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20732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1T05:03:51Z</dcterms:created>
  <dc:creator>A Jenkins</dc:creator>
  <dc:description/>
  <dc:language>en-US</dc:language>
  <cp:lastModifiedBy>A Jenkins</cp:lastModifiedBy>
  <dcterms:modified xsi:type="dcterms:W3CDTF">2009-06-21T06:41:04Z</dcterms:modified>
  <cp:revision>7</cp:revision>
  <dc:subject/>
  <dc:title>Slide 1</dc:title>
</cp:coreProperties>
</file>